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DFA7-E8AE-4422-820E-D8FDA4F58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assium ions (K+) are dissolved in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NH3+ in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153D-75B2-403D-B794-C28AC5C2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604F-22FE-4A43-A539-B1D192ED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4CC-61FD-4606-8DBF-8DF6FB8B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63A-BFC1-425B-A852-D9578DF4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633-3AAC-46CD-9E4B-26F0E165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D4B-381D-4EF6-8A36-A9A5F3F0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7D8C-9284-4599-A674-77D5B8D5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20D-2EFF-4DEA-87E3-091723C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E0D-CA86-41C8-B7C9-EDD9B3D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3E39-0F85-47EF-A706-3A9E20BD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261-D224-4448-80A5-EE31E45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320D-10A1-428C-98DE-A6C3D12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FDFB-205F-466C-B43A-CAFEDB826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3560" y="297000"/>
            <a:ext cx="388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reshly cleaved mica in 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6360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1120" y="914400"/>
            <a:ext cx="441000" cy="348840"/>
            <a:chOff x="681120" y="914400"/>
            <a:chExt cx="441000" cy="348840"/>
          </a:xfrm>
        </p:grpSpPr>
        <p:sp>
          <p:nvSpPr>
            <p:cNvPr id="51" name=""/>
            <p:cNvSpPr/>
            <p:nvPr/>
          </p:nvSpPr>
          <p:spPr>
            <a:xfrm flipV="1">
              <a:off x="85392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112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006560" y="914400"/>
            <a:ext cx="441000" cy="348840"/>
            <a:chOff x="1006560" y="914400"/>
            <a:chExt cx="441000" cy="348840"/>
          </a:xfrm>
        </p:grpSpPr>
        <p:sp>
          <p:nvSpPr>
            <p:cNvPr id="54" name=""/>
            <p:cNvSpPr/>
            <p:nvPr/>
          </p:nvSpPr>
          <p:spPr>
            <a:xfrm flipV="1">
              <a:off x="11793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065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311480" y="914400"/>
            <a:ext cx="441000" cy="348840"/>
            <a:chOff x="1311480" y="914400"/>
            <a:chExt cx="441000" cy="348840"/>
          </a:xfrm>
        </p:grpSpPr>
        <p:sp>
          <p:nvSpPr>
            <p:cNvPr id="57" name=""/>
            <p:cNvSpPr/>
            <p:nvPr/>
          </p:nvSpPr>
          <p:spPr>
            <a:xfrm flipV="1">
              <a:off x="14842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14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671840" y="914400"/>
            <a:ext cx="441000" cy="348840"/>
            <a:chOff x="1671840" y="914400"/>
            <a:chExt cx="441000" cy="348840"/>
          </a:xfrm>
        </p:grpSpPr>
        <p:sp>
          <p:nvSpPr>
            <p:cNvPr id="60" name=""/>
            <p:cNvSpPr/>
            <p:nvPr/>
          </p:nvSpPr>
          <p:spPr>
            <a:xfrm flipV="1">
              <a:off x="184464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184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997280" y="914400"/>
            <a:ext cx="441000" cy="348840"/>
            <a:chOff x="1997280" y="914400"/>
            <a:chExt cx="441000" cy="348840"/>
          </a:xfrm>
        </p:grpSpPr>
        <p:sp>
          <p:nvSpPr>
            <p:cNvPr id="63" name=""/>
            <p:cNvSpPr/>
            <p:nvPr/>
          </p:nvSpPr>
          <p:spPr>
            <a:xfrm flipV="1">
              <a:off x="217008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9728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378160" y="914400"/>
            <a:ext cx="441000" cy="348840"/>
            <a:chOff x="2378160" y="914400"/>
            <a:chExt cx="441000" cy="348840"/>
          </a:xfrm>
        </p:grpSpPr>
        <p:sp>
          <p:nvSpPr>
            <p:cNvPr id="66" name=""/>
            <p:cNvSpPr/>
            <p:nvPr/>
          </p:nvSpPr>
          <p:spPr>
            <a:xfrm flipV="1">
              <a:off x="2550960" y="1110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78160" y="914400"/>
              <a:ext cx="44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H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ahoma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66200" y="1981080"/>
            <a:ext cx="25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hydroxyl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il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920" y="2820960"/>
            <a:ext cx="34711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Modification of mica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thanol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9080" y="3205080"/>
            <a:ext cx="105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O-C-C-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886280"/>
            <a:ext cx="24382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914400" y="4733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120" y="35863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HN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914400" y="4428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914400" y="4124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8240" y="419580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8240" y="3890880"/>
            <a:ext cx="31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520" y="453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914400" y="3819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amin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ydrophobic 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rface coverage: 500 pe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r 1 per 45x45 nm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7480" y="2811600"/>
            <a:ext cx="4614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Binding of a protein to succinimidy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231300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76960" y="1492200"/>
            <a:ext cx="22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acer of about 1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0000" y="11606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859000" y="1438560"/>
            <a:ext cx="1800" cy="5122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16520" y="6264360"/>
            <a:ext cx="517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f: Hinterdorfer, P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PNA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3477-3481, 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u, M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J. of Colloid and Interface Scien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8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1, 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sl_180" descr=""/>
          <p:cNvPicPr/>
          <p:nvPr/>
        </p:nvPicPr>
        <p:blipFill>
          <a:blip r:embed="rId1"/>
          <a:srcRect l="23908" t="19813" r="23073" b="19813"/>
          <a:stretch/>
        </p:blipFill>
        <p:spPr>
          <a:xfrm>
            <a:off x="5535720" y="3429000"/>
            <a:ext cx="2084400" cy="14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10080" y="5638680"/>
            <a:ext cx="24386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697440" y="4830840"/>
            <a:ext cx="2160" cy="51264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240" y="548640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133720"/>
            <a:ext cx="0" cy="152280"/>
          </a:xfrm>
          <a:prstGeom prst="line">
            <a:avLst/>
          </a:prstGeom>
          <a:ln w="316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772400" y="3252960"/>
            <a:ext cx="1169640" cy="398880"/>
            <a:chOff x="7772400" y="3252960"/>
            <a:chExt cx="1169640" cy="398880"/>
          </a:xfrm>
        </p:grpSpPr>
        <p:sp>
          <p:nvSpPr>
            <p:cNvPr id="93" name=""/>
            <p:cNvSpPr/>
            <p:nvPr/>
          </p:nvSpPr>
          <p:spPr>
            <a:xfrm>
              <a:off x="7772400" y="3505320"/>
              <a:ext cx="15228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01000" y="3252960"/>
              <a:ext cx="94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ys (K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597200" y="297000"/>
            <a:ext cx="4278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24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14240" y="685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7454880" y="842760"/>
            <a:ext cx="512280" cy="21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66760" y="685800"/>
            <a:ext cx="5205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NH</a:t>
            </a:r>
            <a:r>
              <a:rPr b="1" lang="en-US" sz="1200" spc="-1" strike="noStrike" baseline="-25000">
                <a:solidFill>
                  <a:srgbClr val="00cc66"/>
                </a:solidFill>
                <a:latin typeface="Tahoma"/>
              </a:rPr>
              <a:t>2</a:t>
            </a:r>
            <a:r>
              <a:rPr b="1" lang="en-US" sz="1200" spc="-1" strike="noStrike">
                <a:solidFill>
                  <a:srgbClr val="00cc66"/>
                </a:solidFill>
                <a:latin typeface="Tahoma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90000" y="190656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su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99240" y="5334120"/>
            <a:ext cx="0" cy="15228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db-logo" descr=""/>
          <p:cNvPicPr/>
          <p:nvPr/>
        </p:nvPicPr>
        <p:blipFill>
          <a:blip r:embed="rId2"/>
          <a:stretch/>
        </p:blipFill>
        <p:spPr>
          <a:xfrm>
            <a:off x="5867280" y="5946840"/>
            <a:ext cx="172728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99240" y="4724280"/>
            <a:ext cx="0" cy="15264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04800" y="411480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43240" y="12193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040" y="48769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876920" y="228600"/>
            <a:ext cx="3429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Ethanolamine HO-C-C-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DMSO, overn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61880" y="6172200"/>
            <a:ext cx="401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: Hinterdorfer, P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NA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3477-3481, 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u, M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J. of Colloid and Interface Scienc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, 1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410080" y="1025640"/>
            <a:ext cx="2438280" cy="2863080"/>
            <a:chOff x="5410080" y="1025640"/>
            <a:chExt cx="2438280" cy="2863080"/>
          </a:xfrm>
        </p:grpSpPr>
        <p:grpSp>
          <p:nvGrpSpPr>
            <p:cNvPr id="116" name=""/>
            <p:cNvGrpSpPr/>
            <p:nvPr/>
          </p:nvGrpSpPr>
          <p:grpSpPr>
            <a:xfrm>
              <a:off x="5562360" y="1025640"/>
              <a:ext cx="2057400" cy="2286000"/>
              <a:chOff x="5562360" y="1025640"/>
              <a:chExt cx="2057400" cy="22860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5562360" y="1025640"/>
                <a:ext cx="2057400" cy="2286000"/>
                <a:chOff x="5562360" y="1025640"/>
                <a:chExt cx="2057400" cy="228600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5562360" y="1025640"/>
                  <a:ext cx="2057400" cy="2286000"/>
                  <a:chOff x="5562360" y="1025640"/>
                  <a:chExt cx="2057400" cy="22860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5562360" y="2625840"/>
                    <a:ext cx="2057400" cy="68580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5562360" y="1025640"/>
                    <a:ext cx="2057400" cy="228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6" h="1440">
                        <a:moveTo>
                          <a:pt x="0" y="0"/>
                        </a:moveTo>
                        <a:lnTo>
                          <a:pt x="0" y="1440"/>
                        </a:lnTo>
                        <a:lnTo>
                          <a:pt x="1296" y="1440"/>
                        </a:lnTo>
                        <a:lnTo>
                          <a:pt x="1296" y="0"/>
                        </a:lnTo>
                      </a:path>
                    </a:pathLst>
                  </a:custGeom>
                  <a:noFill/>
                  <a:ln w="38160">
                    <a:solidFill>
                      <a:srgbClr val="3366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>
                  <a:off x="6933960" y="315900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391160" y="3235320"/>
                  <a:ext cx="7632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010280" y="3159000"/>
                  <a:ext cx="152280" cy="15264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781680" y="3235320"/>
                  <a:ext cx="75960" cy="7632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17184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8160" y="3235320"/>
                <a:ext cx="76320" cy="763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14640" y="3006720"/>
                <a:ext cx="533520" cy="76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53080" y="3083040"/>
                <a:ext cx="533160" cy="75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14640" y="3083040"/>
              <a:ext cx="152640" cy="15228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3083040"/>
              <a:ext cx="7632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76760" y="3159000"/>
              <a:ext cx="15228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43240" y="3159000"/>
              <a:ext cx="152640" cy="152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24480" y="3235320"/>
              <a:ext cx="7596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096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29040" y="323532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1840" y="3159000"/>
              <a:ext cx="7632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625840"/>
              <a:ext cx="20574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080" y="1025640"/>
              <a:ext cx="2361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3340080"/>
              <a:ext cx="2438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34120" y="342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°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succ_ester" descr=""/>
          <p:cNvPicPr/>
          <p:nvPr/>
        </p:nvPicPr>
        <p:blipFill>
          <a:blip r:embed="rId1"/>
          <a:stretch/>
        </p:blipFill>
        <p:spPr>
          <a:xfrm>
            <a:off x="5664240" y="4695840"/>
            <a:ext cx="2641680" cy="638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63880" y="4022640"/>
            <a:ext cx="4278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Binding of succinimidyl to am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228600"/>
            <a:ext cx="43434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Be careful, do not breath or spill these chemicals! Always use the acid hoo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Add molecular sieve beads to the DMSO bott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 make a solution of 6.6 g ethanolam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 12 ml DMSO and heat the solution to 70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 molecular sieve beads to this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ve mica disks on two sides and insert them immediately in the 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ver the beaker with aluminum foil and 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ave it like this overn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w rinse the mica surfaces in hot DMSO (twice) and in ethanol, dry with nitrogen. The amine modified mica can be stored in a dessicator (HL702) for a few days, or used immediately for the next ste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ke a solution of 1 mg/ml ethylene glycol-bis-(succinimidyl-succinate) in chloroform containing 0.5% triethylamine (10 or 20 ml is enough, in 10 ml you inser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triethylamine). Put the amine modified mica disks in the succinimidyl solution and leave them there for 1.5-3 hours. Then wash the mica in chloroform and dry with nitro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t 5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of a pea lectin PSL solution of 1 ug/ml on the mica during two-four hours, remove the excess of PSL and rinse with buffer, leave a droplett of 75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 PBS on the mica. Your sample is ready for an AFM experi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7T12:51:43Z</dcterms:created>
  <dc:creator>Dionne</dc:creator>
  <dc:description/>
  <dc:language>en-US</dc:language>
  <cp:lastModifiedBy>Dionne</cp:lastModifiedBy>
  <dcterms:modified xsi:type="dcterms:W3CDTF">2003-07-03T10:13:39Z</dcterms:modified>
  <cp:revision>64</cp:revision>
  <dc:subject/>
  <dc:title>PowerPoint Presentation</dc:title>
</cp:coreProperties>
</file>